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20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181-6166-4BF9-9994-A60C3850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A14-8BDF-4A61-92E8-C0A28F26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45C-F233-4DBF-84BF-CE9F53EE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00C-D4E3-4D37-8C08-D5076016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C82-EE69-4033-B5ED-A2594035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86F0-F179-47F0-85C1-BCAD9F64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EC0C-392A-428C-82A8-E175A1F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D59F-E722-4B5C-87DC-03AE9E1C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4AD5-0505-494D-AF7B-83A0B2ED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04F5-DA2A-4420-8A0D-2BF96570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1F8B-3CC0-40CD-9569-936E94B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536-3C40-4938-8D73-63266519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BDBE-4DD3-4F11-8035-B5C5CB9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FC1B-1A73-4D0C-9458-A21532C5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EB2F-B36D-4321-88A8-03C310F9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AC9F-BC88-4C07-B9DC-1F69A61A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A501-B21D-4092-9DD1-D0B5D67C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8AD-FCF9-4ECA-A374-7463E19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D01-BD1B-47A4-B736-F4A807EE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87F-81F6-4401-A80C-A9954DA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7AE-9A0C-4209-A8F3-E2254D9F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A51-F93A-4B53-AC9D-F3DF2E0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5CE-6938-4EDB-91FF-C121D1F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C4C-2378-449D-AEE3-123D1F7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5C78-3322-4B05-9A0B-9E9DD60B8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0CEF-058F-4EF5-9565-74F723CE4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atri3jl.edu.glogster.com/edit/importantusesofmath/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.glogster.com/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th Using Glogster ED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son 1:  Important Uses of Ma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son 2:  Ang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18079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or Knowledge for Geomet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uent angles, vertical angles, adjacent angles, complementary angles, and supplementary a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ypes of triangles by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riangles by their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third angle of a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ubTriangle"/>
          <p:cNvSpPr/>
          <p:nvPr/>
        </p:nvSpPr>
        <p:spPr>
          <a:xfrm>
            <a:off x="7696080" y="533520"/>
            <a:ext cx="609840" cy="53316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gin by making a comic strip using Chogger to define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ho.gr/aI2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create a new glog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embed their comic into their glog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for Understan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visit three Websites (linked within the teacher glog) to test their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aamath.com/geo318x3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aamath.com/geo318x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aamath.com/geo612x5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gives quiz using clickers from Power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Tas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use a flip camera to capture 10 items in or around school that have angles or lines in them (watch example vide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then upload pictures to their glog page and use text to explain their relationship to Geom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057400" cy="137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13716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then need to share their glogs with class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can add comments and provide feedback to their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205000" cy="156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4724280"/>
            <a:ext cx="1836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esson 1:  Important Uses of Mat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g page designed by 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patri3jl.edu.glogster.com/edit/importantusesofmath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065240" cy="1819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4079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or Technology Prerequisite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www.edu.glogst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Glogster E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will present a demo on how to use Glogster ED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will need to add students to their account by adding a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:  Students must be at least 13 years old or have consent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8241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sson begins with a WebQuest which has been placed into a glog page. It introduces t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/asking students for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: Help students brainstorm real-world examples of how students and adults use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05520" y="152280"/>
            <a:ext cx="1218960" cy="1179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4724280"/>
            <a:ext cx="17524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 are linked into glog page to provide examples of how math is used in the re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math in sports and math in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students time to explore on Internet, book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96840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144792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Tas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s to the students what they have to complete for their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for pres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pecific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 (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 (School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ith explanation of how their examples use m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803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then need to share their glogs with class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can add comments and provide feedback to their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to brainstorm ways Geometry is used or seen in ou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 Teacher/students feedback through instant mess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20574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son 2:  Ang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g page designed by 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patri3jl.edu.glogster.com/edit/angles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35584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183996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or Technology Prerequisi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PowerPoint on Angl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edu.glogs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Glog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will present a demo on how to use Chogger (create comic strip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hogger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need an account (f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flip camera (upload pic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quiz (click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7724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43600" y="525780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21:54:20Z</dcterms:created>
  <dc:creator>Heidi Patrick</dc:creator>
  <dc:description/>
  <dc:language>en-US</dc:language>
  <cp:lastModifiedBy>Heidi Patrick</cp:lastModifiedBy>
  <dcterms:modified xsi:type="dcterms:W3CDTF">2011-04-28T01:24:27Z</dcterms:modified>
  <cp:revision>10</cp:revision>
  <dc:subject/>
  <dc:title>Math with Glogster</dc:title>
</cp:coreProperties>
</file>